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B380-65E1-4142-8C18-D3628868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2B4-F7EA-4138-989C-FCE3C119F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A9F-B368-4592-9876-A6DA2CA7F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598C-6869-4525-A732-50BC2FD2A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053-C844-42B1-BA4C-B3401CE24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B7B-8362-4754-8DDC-AB3A10664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4C1-EDB2-43AC-AEAE-DA10DA748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078-4D86-4C41-A8F8-33664315B9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0D4E-5E34-4E11-BF02-E09E45886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353-5DA0-4336-B463-28FE166DF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D07-FE5F-41A9-9253-AEA857D4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482-3251-4185-9454-B169FCC8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D64-A50A-4AB3-8C4D-D5DE0572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35F-F766-4972-B8FD-4E407F69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8B4D-F0D6-45B9-8BD8-68B0D6B0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1DF8-83A1-48FA-B603-8C6BFD0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FBA8E-28C0-401F-9AC4-CA25F631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E59E-FA1E-4E2D-A5F4-BE93BF5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2B58F-96F4-4CD2-A280-229E97D6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B9A90-22A4-48D5-B25D-6DE62725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B5A73-E864-4FA7-9A93-66C15D2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A0E-7AF4-440C-ABF7-3958846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40E48-B90E-4B30-860B-9AF79D80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57A63-1A97-4DF4-9955-7DF43902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6185B-F4DB-4A6B-96B3-8453959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4829-32B5-41FB-BAB4-0B0A535D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937AC-2FFF-438F-9C59-08D2340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DA9-2100-4FB0-886C-2181BCE4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3D1-8ACA-4322-BB5B-7AB373A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62F-2F45-4ADE-BA99-E4812CD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158-9452-4D62-A370-33A50827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844-469D-4E80-879C-88D832C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A7A-F587-4D92-A41B-070F236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5D3-E375-4F62-8F99-19F4B40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3231-FE05-4E0D-A9CD-9E467B179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B1B-23CD-4A1C-A43E-A6523271A6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dangered Specie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a War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na Sav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is being done to stop po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 Poaching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22096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04920" y="1752480"/>
            <a:ext cx="883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aching laws are in place to minimize the illegal activity of poac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 up Poachers to get ca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ecting all information possible if poaching is seen going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descriptions/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hicle descri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plate numb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plate"/>
          <p:cNvPicPr/>
          <p:nvPr/>
        </p:nvPicPr>
        <p:blipFill>
          <a:blip r:embed="rId1"/>
          <a:stretch/>
        </p:blipFill>
        <p:spPr>
          <a:xfrm>
            <a:off x="838080" y="3886200"/>
            <a:ext cx="2438640" cy="1222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ethics_no_poaching"/>
          <p:cNvPicPr/>
          <p:nvPr/>
        </p:nvPicPr>
        <p:blipFill>
          <a:blip r:embed="rId2"/>
          <a:stretch/>
        </p:blipFill>
        <p:spPr>
          <a:xfrm>
            <a:off x="4572000" y="2666880"/>
            <a:ext cx="342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 Cited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ding Issues: endangered Species." 2008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ProQuest LLC. Stroudsburg. 23 Feb. 2009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http://sks.sirs.com/cgi-bin/hst-sub-display?id=SPL2896-05770&amp;method=date&amp;res=Y&amp;ren=Y&amp;gov=Y&amp;lnk=N&amp;ic=N&amp;keyno=0000008804&amp;0000008804=Y&amp;title=E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ered%20species&amp;leadiss=Y&amp;auth_checked=Y#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rth American Wildlife Enforcement Officers Association - North American Wildlife Enforcement Officers Associ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Feb. 2009 &lt;http://www.naweoa.org/poaching.htm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tah Division of Wildlife Resou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Feb. 2009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wildlife.utah.gov/law/poaching.php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Kids' Planet ESPECIES Animal Fact Sheets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fenders of Wildlife - Kids' Plan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2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. 2009 &lt;http://www.kidsplanet.org/factsheets/map.html&gt;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ied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(Continued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Polar Bear - Defenders of Wildlife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fenders of Wildlife - Protection of endangered species, imperiled species, habita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&lt;http://www.defenders.org/wildlife_and_habitat/wildlife/polar_bear.php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Polar Bears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RDC's Save BioGems: The Place to Save Wildlife and Wildl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&lt;http://www.savebiogems.org/polar/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What You Can Do to Protect Polar Bears |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Humane Society of the United St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01 Mar. 200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www.hsus.org/marine_mammals/a_closer_look_at_marine_mammals/polar_bears/what_you_can_do_to_protect_polar_bears.htm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endangered speci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es a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 of exti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activ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clim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predator-prey rati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029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some caus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aching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0" y="4352760"/>
            <a:ext cx="3962520" cy="250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33396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some of the most endangered species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Panda B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panda-bear2-449x288"/>
          <p:cNvPicPr/>
          <p:nvPr/>
        </p:nvPicPr>
        <p:blipFill>
          <a:blip r:embed="rId1"/>
          <a:stretch/>
        </p:blipFill>
        <p:spPr>
          <a:xfrm>
            <a:off x="3505320" y="1447920"/>
            <a:ext cx="213336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SharkAP_450x300"/>
          <p:cNvPicPr/>
          <p:nvPr/>
        </p:nvPicPr>
        <p:blipFill>
          <a:blip r:embed="rId2"/>
          <a:stretch/>
        </p:blipFill>
        <p:spPr>
          <a:xfrm>
            <a:off x="5791320" y="39625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TOUGH_TIMES_"/>
          <p:cNvPicPr/>
          <p:nvPr/>
        </p:nvPicPr>
        <p:blipFill>
          <a:blip r:embed="rId3"/>
          <a:stretch/>
        </p:blipFill>
        <p:spPr>
          <a:xfrm>
            <a:off x="1981080" y="4648320"/>
            <a:ext cx="2819520" cy="1939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457200" y="2209680"/>
            <a:ext cx="342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r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57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57200" y="3429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Sha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33520" y="4419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6" descr="gorrilla"/>
          <p:cNvPicPr/>
          <p:nvPr/>
        </p:nvPicPr>
        <p:blipFill>
          <a:blip r:embed="rId4"/>
          <a:stretch/>
        </p:blipFill>
        <p:spPr>
          <a:xfrm>
            <a:off x="5562720" y="182880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5"/>
          <a:stretch/>
        </p:blipFill>
        <p:spPr>
          <a:xfrm>
            <a:off x="3429000" y="2743200"/>
            <a:ext cx="25146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some of the most endangered species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ne Tur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57200" y="2097000"/>
            <a:ext cx="6400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en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isheries imp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oast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irect take of turtles and eg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l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global 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ng coastal beaches used as nesting sanctu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s protecting sea turtles from harmful fishing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 hotel owners keep their lights dim so they do not interrupt the turtle’s nesting seasons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page118_1"/>
          <p:cNvPicPr/>
          <p:nvPr/>
        </p:nvPicPr>
        <p:blipFill>
          <a:blip r:embed="rId1"/>
          <a:stretch/>
        </p:blipFill>
        <p:spPr>
          <a:xfrm>
            <a:off x="6629400" y="3886200"/>
            <a:ext cx="2286000" cy="1486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35049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lar Bea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en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global  warming**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oil development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a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ood shor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ed by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laws protecting polar bears from being harassed, injured or ki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reaties protecting polar bear ecosys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organizations raising money- Polar Bear Plu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3352680" cy="222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326700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angered Species A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s plant and animal species that are at risk of becoming extin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n h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n transporting and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covery plans for Endangered and Threatened Spe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angerment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Do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anger Species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ing green, recycling, conserving energy, and protecting the environment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315200" y="3124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2286000" cy="15382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860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is poaching and why does it occu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aching- Any wildlife that is illegally being killed or taken from people of the state or prov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aching occurs for various reas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el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See full size image"/>
          <p:cNvPicPr/>
          <p:nvPr/>
        </p:nvPicPr>
        <p:blipFill>
          <a:blip r:embed="rId1"/>
          <a:stretch/>
        </p:blipFill>
        <p:spPr>
          <a:xfrm>
            <a:off x="3809880" y="3733920"/>
            <a:ext cx="156060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zpfile001"/>
          <p:cNvPicPr/>
          <p:nvPr/>
        </p:nvPicPr>
        <p:blipFill>
          <a:blip r:embed="rId2"/>
          <a:stretch/>
        </p:blipFill>
        <p:spPr>
          <a:xfrm>
            <a:off x="4876920" y="48769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fur-trade"/>
          <p:cNvPicPr/>
          <p:nvPr/>
        </p:nvPicPr>
        <p:blipFill>
          <a:blip r:embed="rId3"/>
          <a:stretch/>
        </p:blipFill>
        <p:spPr>
          <a:xfrm>
            <a:off x="5638680" y="2819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12:56Z</dcterms:created>
  <dc:creator>SASD</dc:creator>
  <dc:description/>
  <dc:language>en-US</dc:language>
  <cp:lastModifiedBy>Jenna</cp:lastModifiedBy>
  <dcterms:modified xsi:type="dcterms:W3CDTF">2009-03-05T23:15:38Z</dcterms:modified>
  <cp:revision>97</cp:revision>
  <dc:subject/>
  <dc:title>Endangered Species</dc:title>
</cp:coreProperties>
</file>